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0F1-0BF8-403D-8702-1AD0D449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1A1-136C-4D93-8F21-FF4191AB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236-3E89-4541-9DC4-EBC356A5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EDB-23B7-4556-98C9-74D01D9A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8C6-DEF7-407F-8532-478AEC52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DAF-62FD-488F-BEED-F5A60EFF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236-81CD-43E6-B646-AAF9147F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6F4-B9B5-4F2D-AC85-41D86A8D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2E0-3345-46E9-B27D-E68B5C6D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289-3420-4E96-AB3D-B323C67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9AC-9C30-499A-B5D4-A1A805B1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2B5-8C13-481A-9E0D-9FAB3495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67A5-E809-487A-B0E0-02D51EA78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oak Std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oak Std"/>
              </a:rPr>
              <a:t>by.   Sydney Matth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- Electronic Mail which allows individuals with an account to send messages to another person with an </a:t>
            </a:r>
            <a:r>
              <a:rPr b="0" lang="en-US" sz="2800" spc="-1" strike="noStrike">
                <a:solidFill>
                  <a:srgbClr val="000000"/>
                </a:solidFill>
                <a:latin typeface="Blackoak Std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- Internet relay chat was developed in 1988 by Jarkkoo  Oikarinen and allows instant online communicating with someone else who is also online by typing messages back and f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S- Bulletin Board Service allows a user to participate in discussio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-Hypertext Transfer Protocol is used for handling the transmission of pages between a web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eb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P-File Transfer Protocol is used to rapidly Transfer 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net-A program used on networks such as the Internet to allow users to remotely Log on to a server on th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pher- One of the first widespread Internet browsing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et- A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by a single organization and only Accessible by authorized U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wall-A network Security System that prevents unauthorized Network A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net-An extended Intranet that provides Various Level of access to authorized members of the 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Profiling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arketing Technique that collects online data about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-Small Files that contain information about the web sites an individual has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- A collection of servers that off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width-The amount of data and the speed at which the data can travel over the transmission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A computer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sses a server to request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-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- A widely used protocol for lans that uses a bus or star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top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nects the network devices by twisted pair wiring coaxial Cable, or Fiber Optic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quette-The Etiquette that should be followed when using a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-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- The logical Arrangement of the nodes on a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Networks-A type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twork that does not require the use of C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- A circuit Board that goes into the base unit of a computer or other device in a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-Internet Service Provider is company that offers access to the internet for a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-A series of related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9:04Z</dcterms:created>
  <dc:creator>770765</dc:creator>
  <dc:description/>
  <dc:language>en-US</dc:language>
  <cp:lastModifiedBy>770765</cp:lastModifiedBy>
  <dcterms:modified xsi:type="dcterms:W3CDTF">2009-04-17T15:23:00Z</dcterms:modified>
  <cp:revision>3</cp:revision>
  <dc:subject/>
  <dc:title>Vocabulary 1</dc:title>
</cp:coreProperties>
</file>